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D75F-1554-43DA-9658-12BFBF2E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7E7-F15F-4C2A-9545-164FA26E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66C-B713-40AD-8A96-1B86C779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E98-3342-4A71-BA2C-98D3AD3D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C9B3-3134-4C98-A64C-E464A6C9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A043-63A8-4A5F-B2AB-55EA4F35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9955-CFF7-4A90-9E4B-DC4FA2CB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B7DA-BF67-4BFD-AAE1-559333DF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4DBF-766D-4C9B-B04B-8C3ADD4C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786E-5F46-4B19-91D4-2525BF82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876A-5C4F-4C04-A22E-AB6148D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E25-8153-4903-AA0D-937D0DE1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BA07-E5BC-46F3-9D6B-AE14F181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958F-C795-4704-B316-E8F864E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767C-5539-4EF5-B97D-3C2205A4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B30B-7E02-4015-AA1D-98B801158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DC71-6136-451F-B7A6-FACEF3E8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821-4F29-4CC0-8475-22493CD0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1A0-EA1C-46DA-A4C1-5782DC90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507-7DC7-4451-894F-BCF2FAEB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3B5-8C88-4627-A61A-51D96AE8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D8E-E958-4FAC-A174-C1E7E308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58D-EFE4-4D2A-BB7E-004E1CCE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3A88-D97D-4926-A992-581B5252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0ff"/>
                </a:gs>
                <a:gs pos="50000">
                  <a:srgbClr val="ff99ff"/>
                </a:gs>
                <a:gs pos="100000">
                  <a:srgbClr val="ff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9367-B983-4F2A-8B02-FC6C8B1479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3"/>
          <p:cNvSpPr/>
          <p:nvPr/>
        </p:nvSpPr>
        <p:spPr>
          <a:xfrm>
            <a:off x="685800" y="2057400"/>
            <a:ext cx="7391520" cy="33526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09480" y="914400"/>
            <a:ext cx="746784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0" y="1371600"/>
            <a:ext cx="8991720" cy="1828800"/>
          </a:xfrm>
          <a:custGeom>
            <a:avLst/>
            <a:gdLst>
              <a:gd name="textAreaLeft" fmla="*/ 0 w 8991720"/>
              <a:gd name="textAreaRight" fmla="*/ 4496760 w 8991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917" h="1000">
                <a:moveTo>
                  <a:pt x="0" y="0"/>
                </a:moveTo>
                <a:lnTo>
                  <a:pt x="4416" y="0"/>
                </a:lnTo>
                <a:cubicBezTo>
                  <a:pt x="4693" y="0"/>
                  <a:pt x="4917" y="223"/>
                  <a:pt x="4917" y="500"/>
                </a:cubicBezTo>
                <a:cubicBezTo>
                  <a:pt x="4917" y="776"/>
                  <a:pt x="4693" y="999"/>
                  <a:pt x="4417" y="1000"/>
                </a:cubicBezTo>
                <a:lnTo>
                  <a:pt x="0" y="10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50000">
                <a:srgbClr val="ff99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6"/>
          <p:cNvSpPr/>
          <p:nvPr/>
        </p:nvSpPr>
        <p:spPr>
          <a:xfrm>
            <a:off x="0" y="3048120"/>
            <a:ext cx="8305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D979-3AA3-407D-9B64-B6E3E1F0F0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verbs.wa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"/><Relationship Id="rId3" Type="http://schemas.openxmlformats.org/officeDocument/2006/relationships/slide" Target="slide8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8.xml"/><Relationship Id="rId9" Type="http://schemas.openxmlformats.org/officeDocument/2006/relationships/slide" Target=""/><Relationship Id="rId10" Type="http://schemas.openxmlformats.org/officeDocument/2006/relationships/slide" Target="slide8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slide9.xml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slide6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hompchomp.com/terms/linkingverb.ht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66"/>
                </a:solidFill>
                <a:latin typeface="Arial"/>
              </a:rPr>
              <a:t>State of Being Verbs</a:t>
            </a:r>
            <a:endParaRPr b="0" lang="en-US" sz="6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Grade Language Arts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ni-Grammar Uni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Picture 8" descr="circling"/>
          <p:cNvPicPr/>
          <p:nvPr/>
        </p:nvPicPr>
        <p:blipFill>
          <a:blip r:embed="rId1"/>
          <a:stretch/>
        </p:blipFill>
        <p:spPr>
          <a:xfrm>
            <a:off x="5715000" y="3352680"/>
            <a:ext cx="22096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What is a state of being verb?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tate of being verbs are often called linking verbs because they link the subject of the sentence with information about it.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Picture 6" descr="friendship2"/>
          <p:cNvPicPr/>
          <p:nvPr/>
        </p:nvPicPr>
        <p:blipFill>
          <a:blip r:embed="rId1"/>
          <a:stretch/>
        </p:blipFill>
        <p:spPr>
          <a:xfrm>
            <a:off x="3124080" y="4495680"/>
            <a:ext cx="3733920" cy="228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3352680" y="5653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257800" y="5195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I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What is a state of being verb?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There are 8 state of being verbs: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is, am, ar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was, were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be being, been.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AutoShape 4">
            <a:hlinkClick r:id="rId1"/>
          </p:cNvPr>
          <p:cNvSpPr/>
          <p:nvPr/>
        </p:nvSpPr>
        <p:spPr>
          <a:xfrm>
            <a:off x="3200400" y="4343400"/>
            <a:ext cx="2514600" cy="1905120"/>
          </a:xfrm>
          <a:custGeom>
            <a:avLst/>
            <a:gdLst>
              <a:gd name="textAreaLeft" fmla="*/ 123480 w 2514600"/>
              <a:gd name="textAreaRight" fmla="*/ 2391120 w 2514600"/>
              <a:gd name="textAreaTop" fmla="*/ 123480 h 1905120"/>
              <a:gd name="textAreaBottom" fmla="*/ 1781640 h 1905120"/>
            </a:gdLst>
            <a:ahLst/>
            <a:rect l="textAreaLeft" t="textAreaTop" r="textAreaRight" b="textAreaBottom"/>
            <a:pathLst>
              <a:path w="28509" h="21600">
                <a:moveTo>
                  <a:pt x="0" y="0"/>
                </a:moveTo>
                <a:lnTo>
                  <a:pt x="28509" y="0"/>
                </a:lnTo>
                <a:lnTo>
                  <a:pt x="28509" y="21600"/>
                </a:lnTo>
                <a:lnTo>
                  <a:pt x="0" y="21600"/>
                </a:lnTo>
                <a:close/>
              </a:path>
              <a:path fill="lightenLess" w="28509" h="21600">
                <a:moveTo>
                  <a:pt x="0" y="0"/>
                </a:moveTo>
                <a:lnTo>
                  <a:pt x="28509" y="0"/>
                </a:lnTo>
                <a:lnTo>
                  <a:pt x="27109" y="1400"/>
                </a:lnTo>
                <a:lnTo>
                  <a:pt x="1400" y="1400"/>
                </a:lnTo>
                <a:close/>
              </a:path>
              <a:path fill="darken" w="28509" h="21600">
                <a:moveTo>
                  <a:pt x="28509" y="0"/>
                </a:moveTo>
                <a:lnTo>
                  <a:pt x="28509" y="21600"/>
                </a:lnTo>
                <a:lnTo>
                  <a:pt x="27109" y="20200"/>
                </a:lnTo>
                <a:lnTo>
                  <a:pt x="27109" y="1400"/>
                </a:lnTo>
                <a:close/>
              </a:path>
              <a:path fill="darkenLess" w="28509" h="21600">
                <a:moveTo>
                  <a:pt x="285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109" y="20200"/>
                </a:lnTo>
                <a:close/>
              </a:path>
              <a:path fill="lighten" w="285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429000" y="45720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 the 8 state of being verb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ar1"/>
          <p:cNvPicPr/>
          <p:nvPr/>
        </p:nvPicPr>
        <p:blipFill>
          <a:blip r:embed="rId2"/>
          <a:stretch/>
        </p:blipFill>
        <p:spPr>
          <a:xfrm>
            <a:off x="5181480" y="2666880"/>
            <a:ext cx="762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 teacher </a:t>
            </a: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s</a:t>
            </a: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 tall. 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first sentence, “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links “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he teacher”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o information about her—the fact that she is tall. That is her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ate of being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5" name="Picture 4" descr="teacher9"/>
          <p:cNvPicPr/>
          <p:nvPr/>
        </p:nvPicPr>
        <p:blipFill>
          <a:blip r:embed="rId1"/>
          <a:stretch/>
        </p:blipFill>
        <p:spPr>
          <a:xfrm>
            <a:off x="3276720" y="3227400"/>
            <a:ext cx="304776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is candy </a:t>
            </a: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tastes</a:t>
            </a: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 so sweet. 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second sentence, “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astes”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links “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candy”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o information about it (its sweetness). Did you think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ast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was an action verb?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l, it is—but only when the subject is doing the tasting. Here, the candy isn't doing any tasting. The candy itself tastes sweet. That is its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ate of being.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Picture 4" descr="candybar"/>
          <p:cNvPicPr/>
          <p:nvPr/>
        </p:nvPicPr>
        <p:blipFill>
          <a:blip r:embed="rId1"/>
          <a:stretch/>
        </p:blipFill>
        <p:spPr>
          <a:xfrm>
            <a:off x="7391520" y="0"/>
            <a:ext cx="1828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33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Can you tell which are “being” verbs?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95280" y="2362320"/>
            <a:ext cx="373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3520" y="17524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we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ru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will b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600" spc="-1" strike="noStrike" u="sng">
                <a:solidFill>
                  <a:srgbClr val="996666"/>
                </a:solidFill>
                <a:uFillTx/>
                <a:latin typeface="Arial"/>
                <a:hlinkClick r:id="rId4" action="ppaction://hlinksldjump"/>
              </a:rPr>
              <a:t>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395280" y="28954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5" action="ppaction://hlinksldjump"/>
              </a:rPr>
              <a:t>sh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6" action="ppaction://hlinksldjump"/>
              </a:rPr>
              <a:t>ski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7" action="ppaction://hlinksldjump"/>
              </a:rPr>
              <a:t>s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8" action="ppaction://hlinksldjump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609480" y="426708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9" action="ppaction://hlinksldjump"/>
              </a:rPr>
              <a:t>coul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10" action="ppaction://hlinksldjump"/>
              </a:rPr>
              <a:t>h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11" action="ppaction://hlinksldjump"/>
              </a:rPr>
              <a:t>dr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000" spc="-1" strike="noStrike" u="sng">
                <a:solidFill>
                  <a:srgbClr val="996666"/>
                </a:solidFill>
                <a:uFillTx/>
                <a:latin typeface="Arial"/>
                <a:hlinkClick r:id="rId12" action="ppaction://hlinksldjump"/>
              </a:rPr>
              <a:t>dr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pointr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809880" y="5257800"/>
            <a:ext cx="1629000" cy="99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7"/>
          <p:cNvSpPr/>
          <p:nvPr/>
        </p:nvSpPr>
        <p:spPr>
          <a:xfrm>
            <a:off x="5562720" y="533412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 to move 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5"/>
          <p:cNvSpPr/>
          <p:nvPr/>
        </p:nvSpPr>
        <p:spPr>
          <a:xfrm>
            <a:off x="3886200" y="1447920"/>
            <a:ext cx="4267080" cy="4419360"/>
          </a:xfrm>
          <a:custGeom>
            <a:avLst/>
            <a:gdLst>
              <a:gd name="textAreaLeft" fmla="*/ 276480 w 4267080"/>
              <a:gd name="textAreaRight" fmla="*/ 3990600 w 4267080"/>
              <a:gd name="textAreaTop" fmla="*/ 276480 h 4419360"/>
              <a:gd name="textAreaBottom" fmla="*/ 4142880 h 4419360"/>
            </a:gdLst>
            <a:ahLst/>
            <a:rect l="textAreaLeft" t="textAreaTop" r="textAreaRight" b="textAreaBottom"/>
            <a:pathLst>
              <a:path w="21600" h="22371">
                <a:moveTo>
                  <a:pt x="0" y="0"/>
                </a:moveTo>
                <a:lnTo>
                  <a:pt x="21600" y="0"/>
                </a:lnTo>
                <a:lnTo>
                  <a:pt x="21600" y="22371"/>
                </a:lnTo>
                <a:lnTo>
                  <a:pt x="0" y="22371"/>
                </a:lnTo>
                <a:close/>
              </a:path>
              <a:path fill="lightenLess" w="21600" h="223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71">
                <a:moveTo>
                  <a:pt x="21600" y="0"/>
                </a:moveTo>
                <a:lnTo>
                  <a:pt x="21600" y="22371"/>
                </a:lnTo>
                <a:lnTo>
                  <a:pt x="20200" y="20971"/>
                </a:lnTo>
                <a:lnTo>
                  <a:pt x="20200" y="1400"/>
                </a:lnTo>
                <a:close/>
              </a:path>
              <a:path fill="darkenLess" w="21600" h="22371">
                <a:moveTo>
                  <a:pt x="21600" y="22371"/>
                </a:moveTo>
                <a:lnTo>
                  <a:pt x="0" y="22371"/>
                </a:lnTo>
                <a:lnTo>
                  <a:pt x="1400" y="20971"/>
                </a:lnTo>
                <a:lnTo>
                  <a:pt x="20200" y="20971"/>
                </a:lnTo>
                <a:close/>
              </a:path>
              <a:path fill="lighten" w="21600" h="22371">
                <a:moveTo>
                  <a:pt x="0" y="223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71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OOPS!  That is an action verb.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Try agai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9" name="Picture 4" descr="oopsani"/>
          <p:cNvPicPr/>
          <p:nvPr/>
        </p:nvPicPr>
        <p:blipFill>
          <a:blip r:embed="rId1"/>
          <a:stretch/>
        </p:blipFill>
        <p:spPr>
          <a:xfrm>
            <a:off x="4267080" y="1752480"/>
            <a:ext cx="3581640" cy="366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ointl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685800" y="3048120"/>
            <a:ext cx="25909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5"/>
          <p:cNvSpPr/>
          <p:nvPr/>
        </p:nvSpPr>
        <p:spPr>
          <a:xfrm>
            <a:off x="4191120" y="1447920"/>
            <a:ext cx="4038480" cy="4495680"/>
          </a:xfrm>
          <a:custGeom>
            <a:avLst/>
            <a:gdLst>
              <a:gd name="textAreaLeft" fmla="*/ 261720 w 4038480"/>
              <a:gd name="textAreaRight" fmla="*/ 3776760 w 4038480"/>
              <a:gd name="textAreaTop" fmla="*/ 261720 h 4495680"/>
              <a:gd name="textAreaBottom" fmla="*/ 4233960 h 4495680"/>
            </a:gdLst>
            <a:ahLst/>
            <a:rect l="textAreaLeft" t="textAreaTop" r="textAreaRight" b="textAreaBottom"/>
            <a:pathLst>
              <a:path w="21600" h="24045">
                <a:moveTo>
                  <a:pt x="0" y="0"/>
                </a:moveTo>
                <a:lnTo>
                  <a:pt x="21600" y="0"/>
                </a:lnTo>
                <a:lnTo>
                  <a:pt x="21600" y="24045"/>
                </a:lnTo>
                <a:lnTo>
                  <a:pt x="0" y="24045"/>
                </a:lnTo>
                <a:close/>
              </a:path>
              <a:path fill="lightenLess" w="21600" h="240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45">
                <a:moveTo>
                  <a:pt x="21600" y="0"/>
                </a:moveTo>
                <a:lnTo>
                  <a:pt x="21600" y="24045"/>
                </a:lnTo>
                <a:lnTo>
                  <a:pt x="20200" y="22645"/>
                </a:lnTo>
                <a:lnTo>
                  <a:pt x="20200" y="1400"/>
                </a:lnTo>
                <a:close/>
              </a:path>
              <a:path fill="darkenLess" w="21600" h="24045">
                <a:moveTo>
                  <a:pt x="21600" y="24045"/>
                </a:moveTo>
                <a:lnTo>
                  <a:pt x="0" y="24045"/>
                </a:lnTo>
                <a:lnTo>
                  <a:pt x="1400" y="22645"/>
                </a:lnTo>
                <a:lnTo>
                  <a:pt x="20200" y="22645"/>
                </a:lnTo>
                <a:close/>
              </a:path>
              <a:path fill="lighten" w="21600" h="24045">
                <a:moveTo>
                  <a:pt x="0" y="240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4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Yes!  That is a state of being verb.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Try </a:t>
            </a:r>
            <a:endParaRPr b="0" lang="en-US" sz="5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Arial"/>
              </a:rPr>
              <a:t>another!</a:t>
            </a:r>
            <a:endParaRPr b="0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" name="Picture 4" descr="face"/>
          <p:cNvPicPr/>
          <p:nvPr/>
        </p:nvPicPr>
        <p:blipFill>
          <a:blip r:embed="rId1"/>
          <a:stretch/>
        </p:blipFill>
        <p:spPr>
          <a:xfrm>
            <a:off x="4572000" y="1828800"/>
            <a:ext cx="32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point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2120" y="3886200"/>
            <a:ext cx="259056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Online Verb Games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28800" y="152352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Linking Verb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tate of Being Verb Qui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Bee or Nottoobee Verb Ga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oing and Being Verb Sentence Sen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oing and Being Verb Sentence Sense II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king Verb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AutoShape 4">
            <a:hlinkClick r:id="rId1"/>
          </p:cNvPr>
          <p:cNvSpPr/>
          <p:nvPr/>
        </p:nvSpPr>
        <p:spPr>
          <a:xfrm>
            <a:off x="1295280" y="1600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295280" y="2209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295280" y="2819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1295280" y="3352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1295280" y="4419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1295280" y="5486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9:53:12Z</dcterms:created>
  <dc:creator>Jefferson County Schools</dc:creator>
  <dc:description/>
  <dc:language>en-US</dc:language>
  <cp:lastModifiedBy> </cp:lastModifiedBy>
  <dcterms:modified xsi:type="dcterms:W3CDTF">2013-03-18T00:11:09Z</dcterms:modified>
  <cp:revision>27</cp:revision>
  <dc:subject/>
  <dc:title>Verbs</dc:title>
</cp:coreProperties>
</file>